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lomere-associated gene network in lung adenocarcin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Lilit Nersisyan, Anna Hakobyan, and Arsen Arakely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R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46(suppl 59):OA34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ctober 30,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5 by European Respiratory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93840" y="1079640"/>
            <a:ext cx="5697720" cy="5394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19384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ilit Nersisyan et al. Eur Respir J 2015;46:OA34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5 by European Respiratory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