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World Health Organization (WHO) recommended treatment for multidrug-resistant tuberculosis (MDR-TB) and the design of delamanid Trial 204, Trial 208 and Study 116. a) WHO optimised background treatment regimen (OBR) recommendations for the treatment of MDR-TB [19]. b) Otsuka (Otsuka, Tokyo, Japan) design for Trial 204, Trial 208 and Study 116 (delamanid trials/study). SCC: sputum culture conversion. 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#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: time varied between the completion of Trial 204 and the initiation of Trial 208 based on local approval proces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Flowchart of intent-to-treat patients in delamanid (DLM) Trial 204, Trial 208 and Study 116. 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#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: patients who did not participate in Trial 208 were eligible for participation in Study 116 following their completion of Trial 204; 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¶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: time between the completion of Trial 204 and the initiation of Trial 208 was variable and was based on local approval proces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980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lamanid improves outcomes and reduces mortality in multidrug-resistant tubercul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800" y="2259000"/>
            <a:ext cx="860436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y Vija Skripconoka, Manfred Danilovits, Lea Pehme, Tarmo Tomson, Girts Skenders, Tiina Kummik, Andra Cirule, Vaira Leimane, Anu Kurve, Klavdia Levina, Lawrence J. Geiter, Davide Manissero, and Charles D. We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8360" y="5641920"/>
            <a:ext cx="8604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R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olume 41(6):1393-14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May 31,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13 by European Respiratory Socie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420840"/>
            <a:ext cx="93628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World Health Organization (WHO) recommended treatment for multidrug-resistant tuberculosis (MDR-TB) and the design of delamanid Trial 204, Trial 208 and Study 116. a) WHO optimised background treatment regimen (OBR) recommendations for the treatment of MDR-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39800" y="1863720"/>
            <a:ext cx="8604360" cy="3824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3980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Vija Skripconoka et al. Eur Respir J 2013;41:1393-1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13 by European Respiratory Socie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420840"/>
            <a:ext cx="93628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lowchart of intent-to-treat patients in delamanid (DLM) Trial 204, Trial 208 and Study 116. #: patients who did not participate in Trial 208 were eligible for participation in Study 116 following their completion of Trial 204; ¶: time between the completio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82720" y="1079640"/>
            <a:ext cx="8319960" cy="53942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8272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Vija Skripconoka et al. Eur Respir J 2013;41:1393-1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13 by European Respiratory Socie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