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earson correlations between mood scores (Mood Adjective Check List (MACL)) and data representing physiological, functional and psychological status. HADS: Hospital Anxiety and Depression Scale; SIP: Sickness Impact Profile; SGRQ: St George's Respiratory Questionnaire; 6MWD: 6-min walking distance; VC: vital capacity; Pa,O2: oxygen tension in arterial blood; Pa,CO2: carbon dioxide tension in arterial blood; FEV1: forced expiratory volume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lth-related quality of life in COPD: why both disease-specific and generic measures should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C.P. Engström, L.O. Persson, S. Larsson, and M. Sulliv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R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8(1):69-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ly 1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European Respiratory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arson correlations between mood scores (Mood Adjective Check List (MACL)) and data representing physiological, functional and psychological stat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35440" y="1079640"/>
            <a:ext cx="4214520" cy="539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3544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.P. Engström et al. Eur Respir J 2001;18:69-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European Respiratory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